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6.png" ContentType="image/png"/>
  <Override PartName="/ppt/media/image14.wmf" ContentType="image/x-wmf"/>
  <Override PartName="/ppt/media/image12.jpeg" ContentType="image/jpeg"/>
  <Override PartName="/ppt/media/image16.wmf" ContentType="image/x-wmf"/>
  <Override PartName="/ppt/media/image8.png" ContentType="image/png"/>
  <Override PartName="/ppt/media/image7.wmf" ContentType="image/x-wmf"/>
  <Override PartName="/ppt/media/image11.jpeg" ContentType="image/jpeg"/>
  <Override PartName="/ppt/media/image9.wmf" ContentType="image/x-wmf"/>
  <Override PartName="/ppt/media/image10.jpeg" ContentType="image/jpeg"/>
  <Override PartName="/ppt/media/image13.wmf" ContentType="image/x-wmf"/>
  <Override PartName="/ppt/media/image31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5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jpeg" ContentType="image/jpeg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021D-E828-4641-B4CF-53A37939C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35A7-767B-4F1B-AF99-0EFD983DF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E2AB-63DB-405D-A1C9-201E57DE8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5E9D-55BB-4896-BB8D-5287AC981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7222-09A2-4C46-A78B-303FA3E75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30B7-9432-4250-98D5-DD9EB2FA54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7AE11-8C5A-40FE-8A98-D98ED315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3677BC-A581-49D5-ABB8-5AF6EB31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279CA9-B9BF-40AE-A5F5-40BEF6BF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9038-43EC-4A5E-94B0-031E284B61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085CC0-3521-4C0A-A525-6F23D72B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F34626-1794-44F0-A9E7-E38F7D12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12749B-3137-45C4-9DC5-99E8BC7B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201D12-0CF2-41F6-ADC7-6525CB13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6DD3E9-8E4E-4320-91DF-5F1BF3E7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4537F-B6A4-468B-8287-431E1A0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D083A-D312-42A1-933E-6ECD48AB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5243BF-5629-4893-AD92-EC073607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9C13B-54DE-496F-8A4F-17164E93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E8FE3-C6DB-473D-8341-EF87DDB4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C2AA-5507-43DC-B847-6DD1E39579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62471-7E4A-4300-8428-DC0FB022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FD8EF9-6E14-48D8-8C22-9ABD3262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BBB5BC-FB3A-4C99-B90B-8E078F00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46B7C-127C-4AB5-8168-5D3E2770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64A12-4EA0-4224-913E-466BFCE3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81598-F8CD-4968-A98A-22A813D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53FFF7-76D4-4FD5-8093-6683288B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0D867F-A56A-4CC9-85BA-72E1C59A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2ACC0D-1DAC-4B6E-BBCC-B5B99520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56B0B-D14F-432E-9F7F-D2062DF2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CCAA-4E2F-45A9-8F35-DAD97A39460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D96BF6-E25D-4B53-8C7E-539E2644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FC4EFD-3168-4ABB-AD5E-8FDFCBC1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645C54-0BE4-4C54-9A34-C0C35685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E1AB73-83BB-4076-AFBF-EF78F9FD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1E65C3-D482-41D7-ADDA-75C26817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A77938-8D3E-4726-B49B-F6658FBC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C6A1EE-5A53-429F-B1DA-A0B2DE16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86E79C-E985-4A4D-B291-D7DBB7F4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81F88F-6993-48E5-9793-53B90C96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E1A124-33CF-4354-BCFE-70746B77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C391-FF46-4B3B-AD4D-701371DE5BE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D0520B-913D-4784-A5A6-E5086A18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FF8A1A-A3C6-4A8C-B847-868B8838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D1FF8B-E4D1-4956-8489-E640442F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B8FE0-B08D-4632-ACDC-57CAE58B3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F0DE-1380-4153-A684-A5774A7D8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5CBD-B42C-4CBE-8BC2-6BB593C12D3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73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14760" y="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K. Long, </a:t>
            </a:r>
            <a:fld id="{58C4B002-2311-4D84-B111-E87838D3FC9B}" type="datetime3"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July 31, 2026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99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3429000" y="638136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143C-0CE2-4DBF-A559-01A9A9ABAC03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48765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611280" y="640080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050922 ISS Physic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0A7A-1F64-44B2-9503-07B72C7DF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8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B77B-FA4C-4807-A9C5-A087EB35853B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9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0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C734-B607-47CC-8A60-55E1951DDE44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8161-6E12-4567-8AFC-F5F60D794EBC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2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10DF-1494-478E-8853-15CF29DFDC18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2233" t="2712" r="2200" b="4278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2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730080"/>
            <a:ext cx="6372360" cy="6127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372360" y="787320"/>
            <a:ext cx="277164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crementa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plication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ait until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kn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o refut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ve to show that there exists a facility that gives significant improvement over all 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uper-beam and Neutrino Factory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80720" y="88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60360" y="1332000"/>
            <a:ext cx="6732720" cy="5526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407280" y="6292800"/>
            <a:ext cx="2474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ly, one sig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eta-beam, reference facility (100/10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39480" y="144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nedi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2356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reen-field facility (350/35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38680" y="179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Lindroos/Hernande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6320" y="1379520"/>
            <a:ext cx="77295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Large scale structure: Kachelreis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Power-density of CMB has significant implications for neutrino mas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Challenges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of neutrino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: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King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5940360" cy="4449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132000" y="5805360"/>
            <a:ext cx="3888000" cy="57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 … model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ri-bimaximal mixing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Hypothesi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ff"/>
                </a:solidFill>
                <a:latin typeface="Arial"/>
              </a:rPr>
              <a:t>Motivated by ‘symmetry’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del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Links quarks and leptons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26920" y="5661000"/>
            <a:ext cx="7561440" cy="576360"/>
            <a:chOff x="826920" y="5661000"/>
            <a:chExt cx="7561440" cy="576360"/>
          </a:xfrm>
        </p:grpSpPr>
        <p:sp>
          <p:nvSpPr>
            <p:cNvPr id="330" name=""/>
            <p:cNvSpPr/>
            <p:nvPr/>
          </p:nvSpPr>
          <p:spPr>
            <a:xfrm>
              <a:off x="826920" y="5661000"/>
              <a:ext cx="5040360" cy="576360"/>
            </a:xfrm>
            <a:prstGeom prst="rect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7280" y="5950080"/>
              <a:ext cx="2174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4720" y="5670720"/>
              <a:ext cx="23036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Constraint!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250120" y="14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The Muon Trio: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pton Flavor Viol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MDM (g-2)          </a:t>
            </a:r>
            <a:r>
              <a:rPr b="0" lang="en-US" sz="2800" spc="-1" strike="noStrike">
                <a:solidFill>
                  <a:srgbClr val="ed032a"/>
                </a:solidFill>
                <a:latin typeface="Comic Sans MS"/>
              </a:rPr>
              <a:t>chiral chang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ED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19200" y="3352680"/>
            <a:ext cx="7707240" cy="768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876320" y="4248000"/>
            <a:ext cx="4691160" cy="455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162160" y="6126120"/>
            <a:ext cx="6307200" cy="4618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590840" y="5165640"/>
            <a:ext cx="7229160" cy="941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1520" y="3200400"/>
            <a:ext cx="4728960" cy="10764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5"/>
          <a:srcRect l="3941" t="6107" r="3941" b="6107"/>
          <a:stretch/>
        </p:blipFill>
        <p:spPr>
          <a:xfrm>
            <a:off x="5181480" y="685800"/>
            <a:ext cx="3432240" cy="21099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rcRect l="0" t="7682" r="0" b="5764"/>
          <a:stretch/>
        </p:blipFill>
        <p:spPr>
          <a:xfrm>
            <a:off x="685800" y="1066680"/>
            <a:ext cx="3048120" cy="1657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5410080" y="917640"/>
            <a:ext cx="3200400" cy="2406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7440" y="9216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e Robe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55440" y="9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ll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FE1F12-84BB-4BEE-BA2A-50B8B310E9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General Statements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know that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neutral lepton flavor viola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ect Charged lepton flavor violation at som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nhanced if there is new dynamics at the TeV scale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 particular if there is SUSY</a:t>
            </a:r>
            <a:endParaRPr b="0" lang="en-US" sz="2400" spc="-1" strike="noStrike">
              <a:solidFill>
                <a:srgbClr val="ff6699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expect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n the lepton sector    (EDMs as well as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ion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possible connection with cosmology (leptogenesis) 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4572000"/>
            <a:ext cx="609480" cy="3808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F179B2-FF6F-4B4E-A743-A3B33AC6B8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At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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, also have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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 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flux will permi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A dedicated search for a permanent muon EDM ( P, T )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24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e cm and beyond.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Search for muon Flavor Violation to below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9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level, or if </a:t>
            </a:r>
            <a:r>
              <a:rPr b="0" i="1" lang="en-US" sz="2800" spc="-1" strike="noStrike">
                <a:solidFill>
                  <a:srgbClr val="66ccff"/>
                </a:solidFill>
                <a:latin typeface="Symbol"/>
                <a:ea typeface="Symbol"/>
              </a:rPr>
              <a:t>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FV is observed, it will be possible to make detailed studies of the reac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600200" y="5486400"/>
            <a:ext cx="5791320" cy="482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H="1">
            <a:off x="2819520" y="236232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346480" y="235116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78A4E7-5D83-498D-8B97-9981FBE07B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irst steps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owards physics chapter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896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000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4140360" y="0"/>
            <a:ext cx="5003640" cy="6858000"/>
            <a:chOff x="4140360" y="0"/>
            <a:chExt cx="5003640" cy="6858000"/>
          </a:xfrm>
        </p:grpSpPr>
        <p:sp>
          <p:nvSpPr>
            <p:cNvPr id="358" name=""/>
            <p:cNvSpPr/>
            <p:nvPr/>
          </p:nvSpPr>
          <p:spPr>
            <a:xfrm>
              <a:off x="4140360" y="3068640"/>
              <a:ext cx="5003640" cy="37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4140360" y="0"/>
              <a:ext cx="5003640" cy="433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hysics working 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116000" y="3492000"/>
            <a:ext cx="767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(not quite a) summary and plan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with grateful thanks to PhysWG speakers and those w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ook part in the discu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580000" y="4873680"/>
            <a:ext cx="3564000" cy="19843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66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712800"/>
            <a:ext cx="5576760" cy="61452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opose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580000" y="761760"/>
            <a:ext cx="356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Series of w/ss to focus work and to share tools and idea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Each w/s documents progress and identifies next step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Need to specify goals for first workshop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is week!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276640"/>
            <a:ext cx="5580000" cy="470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lan to run as a ‘drop in centre’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cognises that not all can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e for all the days … though great if you c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eekend included for those that it helps with tra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orking meeting – emphasis on discussion and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cific goals now defined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WW page to be upd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mmon tool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nhance efficiency of those new to calculating sensitivities to oscillation parameter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8078" t="2397" r="8167" b="1871"/>
          <a:stretch/>
        </p:blipFill>
        <p:spPr>
          <a:xfrm>
            <a:off x="1835280" y="2354400"/>
            <a:ext cx="5257800" cy="4503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8046360" y="1443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ub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oretical subgroup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Main task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What is scientific gain of precision measurements of neutrino properties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rigin of universe … c.f.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Origin of mass for LH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Super-symmetry – the last space-time symmetry – for IL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Argument presented by Pilar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Job in preparation for w/s #1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est to see if ‘origin of universe’ argument could be developed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Steve King (with KL as naïve follower)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Development of mass-scale arguments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Andre de Gouvea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91960" y="907920"/>
            <a:ext cx="76359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arlett"/>
                <a:ea typeface="Marlett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itivity to unitarity and physics beyond 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000" y="1628640"/>
            <a:ext cx="8346960" cy="9471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 scenario assumes three flavors and vanishing off-diagonal elements of the matter ter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5516640"/>
            <a:ext cx="8346960" cy="5205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1: existence of sterile neutrin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0920" y="6159600"/>
            <a:ext cx="8346960" cy="6426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2: existence of flavor chang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79280" y="2781360"/>
                <a:ext cx="541332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250920" y="4869000"/>
            <a:ext cx="65530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source of violation of unitar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-11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Phenomenological subgroup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14880" y="1159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asu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6520" y="3378240"/>
            <a:ext cx="2856960" cy="8254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ecision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o test scenario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DD46062B-08F5-4F44-A7FF-163ECFD9E7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Pheno/Experimental sub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Calculate sensitivity in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ffff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plane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superbeams SPL, T2K, NOvA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btain BNL info for w/s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beta-beams (100/100), (350/350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aselines: 130, 7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neutrino factories (20, 50) – assume store both charges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selines 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Define reference 1000, 30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… 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ut hope that some optimisation can be done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AEDL for options to be posted on WWW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Action: Patrick Huber/KL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Comparison of results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GLOBES: Patrick Huber, Paul Harrison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Valencia code’: Pilar Hernandez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Madrid code’: Stefano Rigolin (et al.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What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Perform fits for small number of assumed parameter set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Comment on discrete degeneracie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Goal is to establish a baseline for development of comparison of facilities alone and in combination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Need i/p from detector group … detector performance assumptions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Suggest: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Iron Cal: MINOS + high granularity - for NF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LAr?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H</a:t>
            </a:r>
            <a:r>
              <a:rPr b="1" lang="en-GB" sz="1400" spc="-1" strike="noStrike" baseline="-25000">
                <a:solidFill>
                  <a:srgbClr val="ffccff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 </a:t>
            </a: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Ç – for sb and low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Scint – for high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Emmulsion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 challenging programme …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ut at least we’ll have started!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ntroduction and motiv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he most difficult task (!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hat to assume about the machin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mpac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Muon physic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ork to do in preparation for first phys. grp. w/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heoret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henomenolog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Experiment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2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The neutrino standard model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 active flavour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, Dirac, mass eigenstat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 scal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Mass hierarchy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MNS mixing matrix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Three mixing angle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ne CP phas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 beyond </a:t>
            </a:r>
            <a:r>
              <a:rPr b="1" i="1" lang="en-GB" sz="3200" spc="-1" strike="noStrike">
                <a:solidFill>
                  <a:srgbClr val="ffff99"/>
                </a:solidFill>
                <a:latin typeface="Arial"/>
              </a:rPr>
              <a:t>The</a:t>
            </a: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 Standard Mod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3600" y="3716280"/>
                <a:ext cx="90154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μ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τ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i</m:t>
                                  </m:r>
                                  <m:r>
                                    <m:t xml:space="preserve">δ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372360" y="1276200"/>
            <a:ext cx="27716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635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e masses are so different, that must be a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Neutrino mixing so different from quark mixing, that must be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635280" y="781200"/>
            <a:ext cx="5508720" cy="2719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rcRect l="0" t="0" r="1346" b="0"/>
          <a:stretch/>
        </p:blipFill>
        <p:spPr>
          <a:xfrm>
            <a:off x="3568680" y="4581360"/>
            <a:ext cx="5575320" cy="1614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588280" y="14112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e Gouvea, 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992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era of sensitivity …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2611440"/>
            <a:ext cx="9144000" cy="4249080"/>
            <a:chOff x="0" y="2611440"/>
            <a:chExt cx="9144000" cy="4249080"/>
          </a:xfrm>
        </p:grpSpPr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0" y="2611440"/>
              <a:ext cx="9144000" cy="42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40" y="6400800"/>
              <a:ext cx="1738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de Gouve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911760" y="7412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556000" y="3429000"/>
            <a:ext cx="4000320" cy="3429000"/>
            <a:chOff x="2556000" y="3429000"/>
            <a:chExt cx="4000320" cy="3429000"/>
          </a:xfrm>
        </p:grpSpPr>
        <p:sp>
          <p:nvSpPr>
            <p:cNvPr id="264" name=""/>
            <p:cNvSpPr/>
            <p:nvPr/>
          </p:nvSpPr>
          <p:spPr>
            <a:xfrm>
              <a:off x="2556000" y="3429000"/>
              <a:ext cx="400032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rcRect l="0" t="7231" r="7741" b="2337"/>
            <a:stretch/>
          </p:blipFill>
          <p:spPr>
            <a:xfrm>
              <a:off x="2556000" y="3470400"/>
              <a:ext cx="3456000" cy="33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58160" y="3645000"/>
              <a:ext cx="15004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Neutrin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Factor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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Super-bea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4797360" y="4930560"/>
              <a:ext cx="293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O.Mena (hep-ph/0503097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… and precis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765000"/>
            <a:ext cx="914400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1254240"/>
            <a:ext cx="9144000" cy="2174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535720" y="83664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urguet et al. (hep-ph/0503021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" y="7650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Beta-be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38360"/>
            <a:ext cx="9144000" cy="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2880" y="9036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Two main physics strate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765000"/>
            <a:ext cx="8964720" cy="265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 the high neutrino rate (&gt;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10-50 GeV) of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ino Factory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M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(“SuperMinos”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tector of large but not huge mass 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50-100 K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cessarily magnet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dense magnetized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r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, possibly,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ew 10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3573360"/>
            <a:ext cx="896472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the lower neutrino rate (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18-19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sub-GeV)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etabeam + “Megato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w density detector of very large mass (0.5-1 Mt)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volume       (0.5-1 M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n magnetic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erenkov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 possibly, again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fe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 (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except for AG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66760" y="19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5040" y="1484280"/>
            <a:ext cx="168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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76360" y="162864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2360" y="4365720"/>
            <a:ext cx="95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6920" y="27288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ufact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" y="58514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NN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17520" y="3816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alladi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60" y="3137760"/>
            <a:ext cx="905508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&amp;D into machine (MERIT, MICE, …)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012131E1-1779-4138-A871-3CEDFA6E2D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1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60360" y="190800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ncremen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4920" y="771480"/>
            <a:ext cx="6624720" cy="60865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84760" y="1176480"/>
            <a:ext cx="2417760" cy="2950920"/>
            <a:chOff x="3884760" y="1176480"/>
            <a:chExt cx="2417760" cy="2950920"/>
          </a:xfrm>
        </p:grpSpPr>
        <p:sp>
          <p:nvSpPr>
            <p:cNvPr id="290" name=""/>
            <p:cNvSpPr/>
            <p:nvPr/>
          </p:nvSpPr>
          <p:spPr>
            <a:xfrm>
              <a:off x="3884760" y="1176480"/>
              <a:ext cx="2417760" cy="580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ra of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nsitivity &amp; precis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2920" y="1811520"/>
              <a:ext cx="0" cy="231588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725480" y="762120"/>
            <a:ext cx="7418520" cy="6095880"/>
            <a:chOff x="1725480" y="762120"/>
            <a:chExt cx="7418520" cy="6095880"/>
          </a:xfrm>
        </p:grpSpPr>
        <p:grpSp>
          <p:nvGrpSpPr>
            <p:cNvPr id="293" name=""/>
            <p:cNvGrpSpPr/>
            <p:nvPr/>
          </p:nvGrpSpPr>
          <p:grpSpPr>
            <a:xfrm>
              <a:off x="2700360" y="762120"/>
              <a:ext cx="6443640" cy="6095880"/>
              <a:chOff x="2700360" y="762120"/>
              <a:chExt cx="6443640" cy="60958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700360" y="765000"/>
                <a:ext cx="6443640" cy="6093000"/>
                <a:chOff x="2700360" y="765000"/>
                <a:chExt cx="6443640" cy="60930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492360" y="765000"/>
                  <a:ext cx="5651640" cy="6093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2700360" y="771480"/>
                  <a:ext cx="1800360" cy="6086520"/>
                  <a:chOff x="2700360" y="771480"/>
                  <a:chExt cx="1800360" cy="6086520"/>
                </a:xfrm>
              </p:grpSpPr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700360" y="771480"/>
                    <a:ext cx="1800360" cy="6086520"/>
                    <a:chOff x="2700360" y="771480"/>
                    <a:chExt cx="1800360" cy="6086520"/>
                  </a:xfrm>
                </p:grpSpPr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rcRect l="78267" t="0" r="0" b="0"/>
                    <a:stretch/>
                  </p:blipFill>
                  <p:spPr>
                    <a:xfrm>
                      <a:off x="3060720" y="771480"/>
                      <a:ext cx="1440000" cy="608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" descr=""/>
                    <p:cNvPicPr/>
                    <p:nvPr/>
                  </p:nvPicPr>
                  <p:blipFill>
                    <a:blip r:embed="rId3"/>
                    <a:srcRect l="41314" t="85081" r="33693" b="0"/>
                    <a:stretch/>
                  </p:blipFill>
                  <p:spPr>
                    <a:xfrm>
                      <a:off x="2700360" y="5950080"/>
                      <a:ext cx="1656000" cy="90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3059280" y="2924280"/>
                    <a:ext cx="72720" cy="129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1" name=""/>
              <p:cNvSpPr/>
              <p:nvPr/>
            </p:nvSpPr>
            <p:spPr>
              <a:xfrm>
                <a:off x="4572000" y="762120"/>
                <a:ext cx="4572000" cy="609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Optimum schedule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Science driven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Potential match to funding window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Challenge: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To make the case!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725480" y="1138320"/>
              <a:ext cx="2417760" cy="2950920"/>
              <a:chOff x="1725480" y="1138320"/>
              <a:chExt cx="2417760" cy="2950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725480" y="1138320"/>
                <a:ext cx="2417760" cy="580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Era of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nsitivity &amp; precisio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03640" y="1773360"/>
                <a:ext cx="0" cy="23158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3:55:13Z</dcterms:created>
  <dc:creator>long</dc:creator>
  <dc:description/>
  <dc:language>en-US</dc:language>
  <cp:lastModifiedBy>long</cp:lastModifiedBy>
  <dcterms:modified xsi:type="dcterms:W3CDTF">2005-09-24T07:11:09Z</dcterms:modified>
  <cp:revision>31</cp:revision>
  <dc:subject/>
  <dc:title>Introduction to Experimental sub-group</dc:title>
</cp:coreProperties>
</file>